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344B-8C4B-4D42-9B64-ADC121238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7526-DC2C-4550-84FF-E444A6A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07EC-9D2F-4DA9-BCDF-FAC7ACE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CE4D-5E93-4245-9DD9-ABD9ADA928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2792-3E9B-4567-BFD5-E9AFF73F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C595-410E-4C8C-91FF-A34ECBF9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0D7E-E598-4FE9-A998-A87DF85C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D7CB-4C44-445F-A6E1-89B6A015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B55F-25AC-4504-9F85-3B18B943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1546-F345-4321-9A29-E504F76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7F51-58A8-4BAD-9A2B-456826BF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9E34-B8EB-44C5-8E36-31E722C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62F6-6B60-43AF-8A71-4C2AF685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447920" y="30492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西师大版五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5" descr=""/>
          <p:cNvPicPr/>
          <p:nvPr/>
        </p:nvPicPr>
        <p:blipFill>
          <a:blip r:embed="rId1"/>
          <a:stretch/>
        </p:blipFill>
        <p:spPr>
          <a:xfrm>
            <a:off x="2408400" y="2852640"/>
            <a:ext cx="58546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972040" cy="924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1752480" y="18288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用分数表示下面除法算式的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819520" y="33526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÷8   12÷24   15÷2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6665760" cy="924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666880" y="15238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什么是分数的基本性质？本单元分数的基本性质的主要作用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43200" y="353376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数的分子和分母同时乘或者除以相同的数（</a:t>
            </a:r>
            <a:r>
              <a:rPr b="0" lang="en-US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0</a:t>
            </a:r>
            <a:r>
              <a:rPr b="0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除外），分数的大小不变，这叫做分数的基本性质，用分数的基本性质主要可以进行分数的约分和通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1819440" cy="924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3200400" y="1752480"/>
            <a:ext cx="44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隶书"/>
                <a:ea typeface="隶书"/>
              </a:rPr>
              <a:t>什么叫约分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819520" y="2819520"/>
            <a:ext cx="579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把分子、分母同时除以相同的数（</a:t>
            </a:r>
            <a:r>
              <a:rPr b="0" lang="en-US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0</a:t>
            </a:r>
            <a:r>
              <a:rPr b="0" lang="zh-CN" sz="3000" spc="-1" strike="noStrike">
                <a:solidFill>
                  <a:srgbClr val="ff0000"/>
                </a:solidFill>
                <a:latin typeface="华文行楷"/>
                <a:ea typeface="华文行楷"/>
              </a:rPr>
              <a:t>除外），化成和原分数相等但分子、分母都比较小的分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200400" y="4724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6/28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5/100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约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1819440" cy="924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971800" y="30020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把分子、分母同时乘相同的数（</a:t>
            </a:r>
            <a:r>
              <a:rPr b="0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除外），分别化成和原分数相等的同分母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200400" y="1935000"/>
            <a:ext cx="44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隶书"/>
                <a:ea typeface="隶书"/>
              </a:rPr>
              <a:t>什么叫通分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2743200" y="25909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/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/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/5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/20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/9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5/1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通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3203640" cy="9241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895480" y="220968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这节课我们复习了哪些知识？你发现这些知识有哪些联系？从中你知道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3203640" cy="92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14600" y="19051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整理和复习，巩固本单元学习的知识，提高同学们对知识的掌握水平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沟通知识的内在联系，提高同学们综合运用知识的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2895480" y="1219320"/>
            <a:ext cx="5715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分数的意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分数与除法的关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真分数和假分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分数的基本性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公因数和最大公因数，约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公倍数和最小公倍数，通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把分数化成小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把小数化成分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矩形 4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4587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280120" cy="924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14600" y="22860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单位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”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平均分成若干份，表示这样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份或者几份的数，叫做分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8503" r="6281" b="0"/>
          <a:stretch/>
        </p:blipFill>
        <p:spPr>
          <a:xfrm>
            <a:off x="2514600" y="1143000"/>
            <a:ext cx="6019920" cy="315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TextBox 4"/>
          <p:cNvSpPr/>
          <p:nvPr/>
        </p:nvSpPr>
        <p:spPr>
          <a:xfrm>
            <a:off x="3048120" y="4724280"/>
            <a:ext cx="541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00000"/>
                </a:solidFill>
                <a:latin typeface="隶书"/>
                <a:ea typeface="隶书"/>
              </a:rPr>
              <a:t>这位阿姨和这位叔叔谁买的多一些？你能结合分数的意义说一说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214776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666880" y="1676520"/>
            <a:ext cx="609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隶书"/>
                <a:ea typeface="隶书"/>
              </a:rPr>
              <a:t>叔叔买的苹果多一些，因为尽管都是买一筐苹果的</a:t>
            </a:r>
            <a:r>
              <a:rPr b="0" lang="en-US" sz="4000" spc="-1" strike="noStrike">
                <a:solidFill>
                  <a:srgbClr val="7030a0"/>
                </a:solidFill>
                <a:latin typeface="隶书"/>
                <a:ea typeface="隶书"/>
              </a:rPr>
              <a:t>1/5</a:t>
            </a:r>
            <a:r>
              <a:rPr b="0" lang="zh-CN" sz="4000" spc="-1" strike="noStrike">
                <a:solidFill>
                  <a:srgbClr val="7030a0"/>
                </a:solidFill>
                <a:latin typeface="隶书"/>
                <a:ea typeface="隶书"/>
              </a:rPr>
              <a:t>，但是叔叔那筐苹果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隶书"/>
                <a:ea typeface="隶书"/>
              </a:rPr>
              <a:t>数量要多一些，单位“</a:t>
            </a:r>
            <a:r>
              <a:rPr b="0" lang="en-US" sz="4000" spc="-1" strike="noStrike">
                <a:solidFill>
                  <a:srgbClr val="7030a0"/>
                </a:solidFill>
                <a:latin typeface="隶书"/>
                <a:ea typeface="隶书"/>
              </a:rPr>
              <a:t>1”</a:t>
            </a:r>
            <a:r>
              <a:rPr b="0" lang="zh-CN" sz="4000" spc="-1" strike="noStrike">
                <a:solidFill>
                  <a:srgbClr val="7030a0"/>
                </a:solidFill>
                <a:latin typeface="隶书"/>
                <a:ea typeface="隶书"/>
              </a:rPr>
              <a:t>的数量多一些，每份分到的数量也要多一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972040" cy="924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209680" y="22860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单位“</a:t>
            </a: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1”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的多少能影响每份数的多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矩形 4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2147760" cy="924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286000" y="1552680"/>
            <a:ext cx="6629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回答下面的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）把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只金丝猴看作一个整体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只金丝猴是这个整体的几分之几？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只金丝猴又是这个整体的几分之几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我国沿海渔场面积约占世界沿海渔场总面积的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/4”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用分数的意义说一说这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/4“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表示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矩形 3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1819440" cy="924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895480" y="1676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什么是分数单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2895480" y="4419720"/>
            <a:ext cx="58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能说出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/7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1/18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分数单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666880" y="2590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由一个物体或许多物体组成的一个整体，通常我们把它叫做单位“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1”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3T14:33:32Z</dcterms:created>
  <dc:creator/>
  <dc:description/>
  <dc:language>en-US</dc:language>
  <cp:lastModifiedBy/>
  <dcterms:modified xsi:type="dcterms:W3CDTF">2017-12-13T14:33:34Z</dcterms:modified>
  <cp:revision>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Version">
    <vt:r8>1</vt:r8>
  </property>
</Properties>
</file>